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9054-8F5B-4C58-B406-4BEB0A00F4E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40C3-6F87-4135-95BF-0A267C3D180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E4AA-90C8-4348-B08C-68437430184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1CE1-08E2-4880-A8CE-032CD5C5FEB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CF83-444B-4779-8734-953D83A5FAF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BB5E-F082-4E0B-AE9C-F94A6928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DB32-0053-47FA-AFA1-11D43126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78F5-8938-4ADA-B4A5-27B52228A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2FAA-8786-44AA-84C8-73BE64A0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8802-A550-45B9-871A-C87AACF8E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249C-A130-4720-8125-D6C544E2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3D55-BF69-4691-B6FB-B9282913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3137-CBE2-4D2B-AEDA-029BE04D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BFFD-17CD-49F4-8B35-13B77E0B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D890-F80A-4659-8D7A-3C950F4A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5B4B-2E49-4B00-9D34-1564925D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FF71-A87D-4899-BD65-2733B325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050A-DDD5-4A0A-9BFC-8F458232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89D8-80F8-4D82-B2A7-5B977672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FC28-1B24-438B-ADC7-60BEC491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4B1C-5188-4ADB-9FEF-30D708B5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795A-49D4-418E-8AFB-9C7C9926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77180-85D2-4868-98A4-4C40E944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910BA-CC25-43E9-B82E-7717E457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97F30-DF4E-45C0-B8BF-33E03BF4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41209-973E-4794-996B-E1B53D06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F6A1E-9D89-4A23-A5D1-C612F35B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6841-E68B-486B-B21F-DDC6ADAD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67921-01A3-426B-AC20-BB395567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68AB0-9AB2-416E-99C8-42360A32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894C6-6053-436D-B2DF-ABC02EEA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71EB5-6F72-4E2A-B7D8-EC6A028C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6A829-F9E0-459C-8D2B-00B62E2B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2E235-7441-42A4-B667-EB21AEBB7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8A42E-3FBD-42CC-B28A-36169FD85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DF73C-ACCF-46D1-B64A-B86FD3526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837FD-BC1E-4C9F-ACC8-F0B4FEC0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33FB7-A939-470E-9A64-5199C7E0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BFF5-A6A9-4FB9-95BB-D12E6A1B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E78B9-B124-4495-ACDE-3FED1166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BB8AC-F307-47F0-BF5B-4C8CE563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AAE60-9E88-42A0-822F-3D05EC67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402DB-F2B0-4DBF-86C4-1E265E32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4183D-A08D-412C-B71E-3CA16411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F8909-317C-4B9B-84BE-E248C444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F028D-CC95-46DA-9962-F72A9114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C17AB-396F-43F2-979A-D875D9E5B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D332B-D4E1-4DCF-8F8C-01979D592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67CB1-6E48-49BC-9487-8B6B13624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7C9F-DEB4-4BBB-90F9-2DE72681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734E3-D979-4BDE-BB27-3AC810F2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54876-33C1-45B7-888D-6B841941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6A6C9-E55A-4A73-AF0C-E98FA54F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17A78-9D38-4C7F-87B3-84FD31EE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60B57-1643-48CB-92BE-EF3C59C9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0D26C-6643-4E1D-8E52-33A1210D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E1BB6-7AC5-40BA-9FA5-F3089FBA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5E7E9-7286-4BB9-B55F-3102599B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ADF67-6598-4C09-8890-6B5E2778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447F6-9ABE-4DAE-90E2-30AF6C86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DAEE-C02C-47A9-946C-57688D94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C9262-9CE1-4201-9F56-65EA9C2C8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682A6-FD84-4A63-B8DE-84D879A8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6923F-6DCD-484F-BFBE-78D88F18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A4E3A-104D-4B1C-BB1F-1D290462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97559-08D9-4544-AB60-DEF1EACE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46A7F-35E9-473B-82D6-BE1181D1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723CC-D9DA-4F0E-8493-3A764578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ABDE4-55B8-4279-BA44-FB1573BD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0A870-6437-45E4-9340-DA222A70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7878F-F780-447D-9D1C-E5E2EF4F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CDFC-FC23-4318-BC21-69407D8F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89786-3863-4DD6-945D-D53D1F6B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B8FD6-904E-4F36-A4A6-472E1B67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2B002-5D89-41F2-BC8A-33AAF94D3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D96F-F5BF-41CC-AFA7-3749ACBE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9CE1-3EDE-41EF-AE90-BA163720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CBC6-D30B-41FA-B886-31608EA65076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BEEF-A712-496E-8253-AB1FE8C10CE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CCA3-246B-4B8B-A0CC-35C71A64E195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D46E-D3FD-4FA4-B148-47255031888A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E620-7E48-4545-AF00-D765B6F9DAA7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A56F-3A0B-4854-80D1-20408230107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907C-9C1D-489D-B519-1ADC17A72CB0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3AB7-7596-4FC6-98F5-2D479989A46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9DBA-0659-4743-94C6-0CCF7F059B7A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6F68-43ED-40A7-8A60-41E223C780E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0074-DC2B-439C-95DD-F9A7039C4887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922B-4369-4F64-940B-CEBC60EE59E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567160" y="1413000"/>
            <a:ext cx="6933960" cy="41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5400" spc="-1" strike="noStrike">
                <a:solidFill>
                  <a:srgbClr val="000000"/>
                </a:solidFill>
                <a:latin typeface="Arial"/>
              </a:rPr>
              <a:t>Aposentados/as que exercem atividade remunera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agosto de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2063880" y="61657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RGPS – 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479520" y="936720"/>
            <a:ext cx="1080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muneração Média Nominal em R$ por Tipo de Desligamento e Faixa Etária na Aposentadoria* CLT - RAIS/2015 – Posição Dezembro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4995720" y="11224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363600" y="6210360"/>
            <a:ext cx="108014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Gráfico 6"/>
          <p:cNvGraphicFramePr/>
          <p:nvPr/>
        </p:nvGraphicFramePr>
        <p:xfrm>
          <a:off x="573120" y="1344600"/>
          <a:ext cx="10326600" cy="485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Gráfico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1344600"/>
                    <a:ext cx="1032660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334800" y="765000"/>
            <a:ext cx="10801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Arial"/>
                <a:ea typeface="Arial Unicode MS"/>
              </a:rPr>
              <a:t>Secretaria de Previdê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Arial"/>
                <a:ea typeface="Arial Unicode MS"/>
              </a:rPr>
              <a:t>Subsecretaria de Regime Geral de Previdência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Arial"/>
                <a:ea typeface="Arial Unicode MS"/>
              </a:rPr>
              <a:t>Coordenação-Geral de Estudos Previdenciá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Arial"/>
                <a:ea typeface="Arial Unicode MS"/>
              </a:rPr>
              <a:t> </a:t>
            </a:r>
            <a:r>
              <a:rPr b="1" lang="pt-BR" sz="3200" spc="-1" strike="noStrike">
                <a:solidFill>
                  <a:srgbClr val="002060"/>
                </a:solidFill>
                <a:latin typeface="Arial"/>
                <a:ea typeface="Arial Unicode MS"/>
              </a:rPr>
              <a:t>(61) 2021-5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334800" y="684360"/>
            <a:ext cx="10730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Vínculos Ativos por Aposentadoria* e UF – CLT – RAIS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34800" y="6235560"/>
            <a:ext cx="1044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271520" y="1268280"/>
          <a:ext cx="6408720" cy="4969080"/>
        </p:xfrm>
        <a:graphic>
          <a:graphicData uri="http://schemas.openxmlformats.org/drawingml/2006/table">
            <a:tbl>
              <a:tblPr/>
              <a:tblGrid>
                <a:gridCol w="1524240"/>
                <a:gridCol w="1331640"/>
                <a:gridCol w="1330560"/>
                <a:gridCol w="1260360"/>
                <a:gridCol w="961920"/>
              </a:tblGrid>
              <a:tr h="254160">
                <a:tc gridSpan="5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dade de Vínculos Ativos por Aposentadoria* CLT - RAIS 20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112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gridSpan="4"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ivo Desligamen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sentadoria Tempo de Contribuiçã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sentadoria por Idad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sentadoria Especial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ndô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zon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raim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á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pá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anhã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auí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ará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Grande do Nor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71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íb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nambu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go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gip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127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h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as Gerai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írito San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de Janei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ão Paul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0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1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ná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ta Catari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Grande do S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4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o Grosso do S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o Gros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iá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to Feder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.1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.6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8183520" y="1349280"/>
          <a:ext cx="1928880" cy="4876920"/>
        </p:xfrm>
        <a:graphic>
          <a:graphicData uri="http://schemas.openxmlformats.org/drawingml/2006/table">
            <a:tbl>
              <a:tblPr/>
              <a:tblGrid>
                <a:gridCol w="1436760"/>
                <a:gridCol w="492120"/>
              </a:tblGrid>
              <a:tr h="247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rai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p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ndô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9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anh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7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í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o Grosso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o Gros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go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zon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Grande do Nor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iá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9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au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gi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ar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to Fede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írito Sa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nambu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h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ta Catar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as Gera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Grande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de Janei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ão Pau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1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07880" y="765000"/>
            <a:ext cx="108507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total de Vínculos Ativos por Aposentadoria* - RAIS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000080" y="6288120"/>
            <a:ext cx="10225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Gráfico 4"/>
          <p:cNvGraphicFramePr/>
          <p:nvPr/>
        </p:nvGraphicFramePr>
        <p:xfrm>
          <a:off x="1652760" y="1219320"/>
          <a:ext cx="7788240" cy="506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2" name="Gráfico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760" y="1219320"/>
                    <a:ext cx="778824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34800" y="765000"/>
            <a:ext cx="10730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Vínculos Ativos* por Setor de Atividade e Faixa Etária - CLT – RAIS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95160" y="1773360"/>
          <a:ext cx="10887120" cy="3070080"/>
        </p:xfrm>
        <a:graphic>
          <a:graphicData uri="http://schemas.openxmlformats.org/drawingml/2006/table">
            <a:tbl>
              <a:tblPr/>
              <a:tblGrid>
                <a:gridCol w="1400400"/>
                <a:gridCol w="1222200"/>
                <a:gridCol w="1222560"/>
                <a:gridCol w="1157040"/>
                <a:gridCol w="882720"/>
                <a:gridCol w="917640"/>
                <a:gridCol w="1025640"/>
                <a:gridCol w="1528560"/>
                <a:gridCol w="1530360"/>
              </a:tblGrid>
              <a:tr h="341280">
                <a:tc gridSpan="9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dade de Vínculos Ativos por Aposentadoria* e Setor Atividade CLT - RAIS 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9880">
                <a:tc row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xa Etár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gridSpan="8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GE Se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tiva mi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ústria de transforma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ços industriais de utilidade públ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ção Civ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ér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ç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ção Públ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opecuária, extração vegetal, caça e pes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110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a 39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8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a 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a 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6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8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e ma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7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4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5" name="CaixaDeTexto 2"/>
          <p:cNvSpPr/>
          <p:nvPr/>
        </p:nvSpPr>
        <p:spPr>
          <a:xfrm>
            <a:off x="450720" y="5877000"/>
            <a:ext cx="989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* Foi estabelecido um intervalo maior de faixa etária devido a erros de preenchimento na RAIS, o que explica a existência de aposentadoria em idades muito preco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450720" y="6143760"/>
            <a:ext cx="1044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587520" y="932040"/>
            <a:ext cx="1080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Total  de Vínculos Ativos* por Setor de Atividade - CLT – RAIS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479520" y="6202440"/>
            <a:ext cx="10801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Gráfico 7"/>
          <p:cNvGraphicFramePr/>
          <p:nvPr/>
        </p:nvGraphicFramePr>
        <p:xfrm>
          <a:off x="2228760" y="1511280"/>
          <a:ext cx="7518600" cy="485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0" name="Gráfico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8760" y="1511280"/>
                    <a:ext cx="751860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623880" y="836640"/>
            <a:ext cx="1058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Vínculos Ativos*  por Faixa de Remuneração (Salário Mínimo) e Sexo CLT – RAIS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515880" y="6211800"/>
            <a:ext cx="1116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623880" y="1989000"/>
          <a:ext cx="10585440" cy="2052720"/>
        </p:xfrm>
        <a:graphic>
          <a:graphicData uri="http://schemas.openxmlformats.org/drawingml/2006/table">
            <a:tbl>
              <a:tblPr/>
              <a:tblGrid>
                <a:gridCol w="1012680"/>
                <a:gridCol w="681120"/>
                <a:gridCol w="722520"/>
                <a:gridCol w="725400"/>
                <a:gridCol w="668160"/>
                <a:gridCol w="736560"/>
                <a:gridCol w="736920"/>
                <a:gridCol w="722160"/>
                <a:gridCol w="654120"/>
                <a:gridCol w="654120"/>
                <a:gridCol w="653760"/>
                <a:gridCol w="654120"/>
                <a:gridCol w="655560"/>
                <a:gridCol w="654120"/>
                <a:gridCol w="654120"/>
              </a:tblGrid>
              <a:tr h="39708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gridSpan="1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xa de Remuner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≤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0.5 a 1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 a 1.5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.5 a 2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2 a 3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3 a 4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4 a 5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5 a 7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7 a 10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0 a 15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5 a 20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20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ñ class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97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1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6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.6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334800" y="698400"/>
            <a:ext cx="1080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Total de Vínculos  Ativos* por Faixa de Remuneração (Salário Mínim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LT – RAIS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334800" y="6350040"/>
            <a:ext cx="10391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Gráfico 4"/>
          <p:cNvGraphicFramePr/>
          <p:nvPr/>
        </p:nvGraphicFramePr>
        <p:xfrm>
          <a:off x="233280" y="1506600"/>
          <a:ext cx="1054440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7" name="Gráfico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1506600"/>
                    <a:ext cx="105444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344520" y="606600"/>
            <a:ext cx="11053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Vínculos Ativos* por Faixa de Remuneração (Salário Mínimo) e Sexo CLT - RAIS 2015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334800" y="6334200"/>
            <a:ext cx="11306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Gráfico 5"/>
          <p:cNvGraphicFramePr/>
          <p:nvPr/>
        </p:nvGraphicFramePr>
        <p:xfrm>
          <a:off x="896760" y="1300320"/>
          <a:ext cx="10182240" cy="513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1" name="Gráfico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6760" y="1300320"/>
                    <a:ext cx="10182240" cy="51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987480" y="765000"/>
            <a:ext cx="10077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muneração Média Nominal em R$ por Tipo de Desligamento e Faixa Etária na Aposentadoria* CLT - RAIS/2015 - Posição Dezembro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tângulo 2"/>
          <p:cNvSpPr/>
          <p:nvPr/>
        </p:nvSpPr>
        <p:spPr>
          <a:xfrm>
            <a:off x="987480" y="6093000"/>
            <a:ext cx="1021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1127160" y="1773360"/>
          <a:ext cx="9793080" cy="3887640"/>
        </p:xfrm>
        <a:graphic>
          <a:graphicData uri="http://schemas.openxmlformats.org/drawingml/2006/table">
            <a:tbl>
              <a:tblPr/>
              <a:tblGrid>
                <a:gridCol w="1461960"/>
                <a:gridCol w="2210040"/>
                <a:gridCol w="1800000"/>
                <a:gridCol w="2521080"/>
                <a:gridCol w="1800000"/>
              </a:tblGrid>
              <a:tr h="89208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uneração Média Nominal em R$ por Tipo  de Desligamento e Faixa Etária na Aposentadoria* CLT - RAIS/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2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sentadoria Tempo de Contribuiçã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sentadoria por Id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sentadoria Especi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74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a 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59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36,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06,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68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a 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81,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07,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70,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34,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a 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81,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9,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43,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897,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e m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622,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22,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462,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53,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893,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30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95,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20,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7-01-26T10:42:46Z</cp:lastPrinted>
  <dcterms:modified xsi:type="dcterms:W3CDTF">2017-08-04T17:02:49Z</dcterms:modified>
  <cp:revision>455</cp:revision>
  <dc:subject/>
  <dc:title>Demografia</dc:title>
</cp:coreProperties>
</file>